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FAD0-F1FD-4FC5-93B5-F37FC022D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655D-D2E8-4030-8263-B2FFE5F8C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0FF4-7DD6-433A-B230-30C5135E4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8345-C1B1-4EB6-B7DA-362F28E5C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8F41-47F2-4DD3-B7D6-86AD0E3089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5E92-B050-4CA3-9B04-F95825ADE3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665D-B2C2-4C89-B43B-9CFACD6A64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11C8-6D6E-4CBD-975A-EDEE4BCC61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C467-681F-41D7-B1B6-09116B0738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D26F-7B39-42B7-AFDF-E17CF3E82D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A3EA-09A6-4D1D-91AA-9B4DEF1755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CA79-73A5-423E-822E-CA8F49A1E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BF08-3846-471B-B343-BCE0CBE222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5E02-57FD-4F47-B102-8C7681E83C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9301-A290-42CB-87AF-7610BF0766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F628-0084-4F98-BD9F-9F16605DEC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9840-9C2F-4D36-8C18-E32017DA2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9C00-39C0-4155-BD17-039ED6E4D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EBD6-DB8F-4503-8B7D-C6F013910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375E-564E-402C-98A6-3A0B44BF6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B9CD-2EAA-49E7-91E3-7A2BF42B7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47F8-5318-4702-B3EE-4BAF038A0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EC2C-C715-435D-8854-6593F2FE8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2E83-F01E-48DE-921E-69E3A381E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8AF6-AB80-4B9D-ADBC-F26D0D05822A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5738-F97F-4B77-8590-76D6E0D4DE94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EA1F-3352-4311-B655-3E80370FF4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하나님이 가라사대 빛이 있으라 하시매 빛이 있었고 그 빛이 하나님이 보시기에 좋았더라 하나님이 빛과 어두움을 나누사 빛을 낮이라 칭하시고 어두움을 밤이라 칭하시니라 저녁이 되며 아침이 되니 이는 첫째 날이니라                       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창세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:3-1:5, New International Vers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259236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7246-959F-4EC8-97A4-4E7FCA8034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거리에 따른 빛의 약화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거리 제곱에 반비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a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의 주변광 세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Ka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주변광 계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95640" y="1341360"/>
            <a:ext cx="3240000" cy="1893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11280" y="3789360"/>
            <a:ext cx="3246480" cy="63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6CDB-F9E9-40CC-9869-3AEDCDC3BB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주변광 계수 변화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주변광만 부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여타 반사광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주변광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4969080" cy="121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403280" y="4437000"/>
            <a:ext cx="4969080" cy="12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0C1B-5303-41B8-89C3-0A4B8861DA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확산반사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Diffusive Refle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난반사에 해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완벽 확산체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(Perfect Diffuser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와 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방향성 확산체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(Directional Diffus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방향성 확산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확산 방향에 시점이 있다면 물체가 더욱 밝게 보여야 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완벽 확산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역조명 모델의 그래픽 처리를 단순화하기 위해서 완벽 확산체를 가정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4105080" cy="143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68360" y="4792680"/>
            <a:ext cx="4319640" cy="151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003640" y="3141720"/>
            <a:ext cx="3816360" cy="17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5882-28FA-4715-97CB-D84343AF8F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확산광의 세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면이 서 있는 방향에 따라 다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람베르트 법칙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Lambertian La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입사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벡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법선벡터 사이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면의 밝기는 입사각의 코사인에 정비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확산광의 세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d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의 확산광 세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Kd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확산광 계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619280" y="2708280"/>
            <a:ext cx="2941560" cy="533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547640" y="5084640"/>
            <a:ext cx="4999320" cy="106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300720" y="981000"/>
            <a:ext cx="199548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6B9E-8CB9-4FFC-9D7F-4060C35860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확산광 효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면이 서 있는 방향에 따라 차등적 밝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입체감 부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f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주변광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우상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우측 중앙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중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79640" y="3068640"/>
            <a:ext cx="4680000" cy="14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16D2-72A3-48E4-91AC-DFE19BC13F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경면반사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Specular Refle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반질반질한 표면에서 반사되는 빛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반사에 의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의 색이 아니라 광원의 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f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주변광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확산광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의 색이 물체의 색과 상호작용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적으로 입사각과 반사각이 동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이 정확히 반대방향일 때 보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924360" y="2492280"/>
            <a:ext cx="3529080" cy="1579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708360" y="4869000"/>
            <a:ext cx="4232160" cy="18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088F-642B-4E39-AA44-547E2DD515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경면광 분포와 퐁 반사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실제적으로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Lobe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퐁 반사모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hong Illumination Mod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택계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hineness Coeffici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면광의 세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708360" y="907920"/>
            <a:ext cx="4826160" cy="1582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258920" y="3357720"/>
            <a:ext cx="2736720" cy="1645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4140360" y="3573360"/>
            <a:ext cx="4394160" cy="1193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262160" y="5445000"/>
            <a:ext cx="5325840" cy="10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0941-3A9E-4B59-980C-B48313020A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약화함수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Attenuation Fun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엘에서는 거리에 따른 약화를 수식으로 표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 = b = 0, c = 1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    a = b = .25, c = .5 ,    a = c = 0, b = 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2460600" cy="647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7059600" cy="1307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900000" y="3933720"/>
            <a:ext cx="7056720" cy="1306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900000" y="5216400"/>
            <a:ext cx="7056720" cy="13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4633-C172-40E5-A5B8-EB143E9D71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확산계수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경면계수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광택계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확산계수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01, 0.3, 0.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경면계수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0, 0.4, 0.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광택계수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 40, 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2700360" y="1268280"/>
            <a:ext cx="4751280" cy="1390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700360" y="3284640"/>
            <a:ext cx="4751280" cy="1380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2627280" y="5229360"/>
            <a:ext cx="4824360" cy="139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C102-9D4C-4210-99AD-030E83855D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역반사 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2641320" cy="2122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630864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85DF-A039-41E9-B600-7E2064CE97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조명과 음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렌더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ender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조명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Lighting, Illumination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정점의 색상을 부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공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bject Spa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음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hading, Surface Rendering):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조명 결과를 이용하여 물체 면의 색상을 부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영상공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Image Spa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576108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8A28-5377-4F69-B55A-5AA45D3934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조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이 여러 개인 경우는 각각의 광원에서 나오는 빛을 모두 합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. R, G, B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색에 대해 별도로 적용하여 합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특성은 반사광 종류별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a, Id, 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특성은 반사광 종류별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Ka, Kd, 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067280" y="2276640"/>
            <a:ext cx="4680000" cy="3244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95280" y="5084640"/>
            <a:ext cx="42480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48F6-0ECD-4086-B751-412686A672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역 조명모델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For Each Object of the Scene {                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모든 물체에 대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For Each Polygon Mesh of the Object { 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모든 다각형에 대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Calculate N, L, V, R, D;                            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벡터 및 거리 계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For Each Light Source {                           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모든 광원에 대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For Ambient Reflection                        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주변반사에 대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Calculate R, G, B Reflection Separately; 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색별로 계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For Diffuse Reflection                          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확산반사에 대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Calculate R, G, B Reflection Separately; 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색별로 계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For Specular Reflection                        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경면반사에 대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Calculate R, G, B Reflection Separately; 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색별로 계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Add R, G, B Colors Separately;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주변광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확산광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경면광을 합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Add R, G, B Colors Separately;        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모든 광원의 영향을 합산          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62AA-9D57-4658-B793-C4A5EFF2F3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음영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ha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음영 또는 표면 렌더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urface Render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면의 색을 부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플랫 셰이딩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(Flat Shad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주어진 하나의 다각형 전체를 동일한 색으로 칠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빠르고 간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수 셰이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Constant Shading),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깎은 면 셰이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Facet Shad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각형을 구성하는 다각형 정점의 위치를 평균하여 중심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Centroid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를 구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중심점에서의 법선벡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벡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벡터를 기준으로 조명모델이 가해지며 그 결과 색이 면 내부를 모두 채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30BB-32B8-4C3B-BDDE-EAAAF590A6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플랫 셰이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마하밴드 효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ach Band Eff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5184720" cy="1731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529080" cy="194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500720" y="3789360"/>
            <a:ext cx="417960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5754-5ACA-4D0F-84E9-E8644822C9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구로 셰이딩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Gouraud Sha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각형 내부를 서로 다른 색으로 채우는 방법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점의 색을 보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점의 법선벡터를 요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접면의 법선벡터를 평균하여 구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점의 색으로부터 내부면의 색을 선형보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면광을 감안하지 않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실제적인 정점의 법선벡터와 근사적으로 계산된 법선벡터가 완전히 일치하지 않기 때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3672000" cy="2122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187280" y="5445000"/>
            <a:ext cx="2346480" cy="800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5003640" y="3141720"/>
            <a:ext cx="3721320" cy="29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9AA2-E598-4268-8924-C829C87396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구로 셰이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플랫 셰이딩보다는 부드러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마하 밴드 효과는 그대로 남아있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우에 따라서 오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4737240" cy="2295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619280" y="4581360"/>
            <a:ext cx="5659560" cy="19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1567-86C4-46DD-895D-D312DD70A5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퐁 셰이딩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Phong Sha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점의 색 대신 정점의 법선벡터를 보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곡면의 기울기가 복원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면광을 부여할 수 있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124000" y="1413000"/>
            <a:ext cx="2592360" cy="2222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148360" y="1557360"/>
            <a:ext cx="2663640" cy="1992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484360" y="4292640"/>
            <a:ext cx="465768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9DF5-6963-4565-9E00-522C33B4B6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음영결과 비교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플랫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구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구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835280" y="1413000"/>
            <a:ext cx="6121440" cy="1790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627280" y="4005360"/>
            <a:ext cx="4969080" cy="244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1738-6A73-4369-9470-D30EEAA510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미세면 모델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Microfacet Mode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면의 거칠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oughness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를 모델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균면의 방향을 기준으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면의 거칠기라는 매개변수를 사용해서 미세면의 굴곡이나 모양을 조절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2160720" cy="1220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5202000" cy="173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2B38-B083-4FC0-BF04-2E8361E5DC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미세면 모델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Microfacet Mode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플랫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블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쿡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토렌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블린 셰이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퐁 셰이딩과 유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면광 성분이 더욱 부드럽게 퍼져나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이 거의 물체면과 나란히 예각으로 입사한 것과 유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쿡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토렌스 셰이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탈 셰이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금속표면의 은은한 경면광 처리에 유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f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퐁 모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플라스틱 재질 처리에 유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971640" y="1413000"/>
            <a:ext cx="7454880" cy="20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2E49-E515-40E8-929D-794AB70CE0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빛의 진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에서 출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표면에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흡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Absorp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반사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efle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Transmission)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또는 굴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efra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를 본다는 것은 우리 눈으로 입사하는 빛에 의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관찰자 위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과 물체의 특성에 의해 결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627280" y="3645000"/>
            <a:ext cx="3794040" cy="296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FEC0-1D0A-40F8-856E-54366C5856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조명모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Illumination Mode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역 조명모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Global Illumination Model):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른 물체면에서 반사되어 입사되는 빛까지 고려한 조명모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역 조명모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Local Illumination Model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으로부터 직접 물체면으로 입사되는 빛만을 고려한 모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4000" y="733320"/>
            <a:ext cx="5327640" cy="4186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867280" y="2622600"/>
            <a:ext cx="3097440" cy="22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8517-D745-46F5-AD6E-7D83C54A3F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광원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Light Sour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면적광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Area Light Source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과 점광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oint Light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면적광원을 분산 점광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Distributed Point Light Source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으로 근사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476360" y="1341360"/>
            <a:ext cx="2735280" cy="1859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448000" cy="1920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692360" y="4653000"/>
            <a:ext cx="5256000" cy="13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84A9-5B49-4197-9D10-2E400BAFEC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광원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Light Sour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위치성 광원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Positional Light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옴니라이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mni Light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빛이 모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mni)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방향으로 방사형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adial Direction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으로 진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의 위치가 중시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근거리 광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방향성 광원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Directional Light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빛이 물체면을 향하여 일정한 방향으로 진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빛의 방향이 중심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거리 광원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720960" cy="225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284720" y="3860640"/>
            <a:ext cx="439272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B680-5AB1-4A97-A845-B440AE227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스포트라이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pot Ligh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위치성 광원과 유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빛이 방사형으로 진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광원이 유한 거리에 존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방향성 광원과 유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하나의 방향을 향해서만 진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차이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일정한 각 범위 내로만 진행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포로수용소의 탐조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4032360" cy="2314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003640" y="3573360"/>
            <a:ext cx="3370320" cy="24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259C-B649-40DC-9AB2-70636CE738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조명관련 벡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의 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R, G, B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별로 빛의 세기를 별도 추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최종적으로 합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조명관련 벡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입사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원벡터와 법선벡터가 이루는 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2808360" cy="1430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203640" y="370044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403280" y="3213000"/>
            <a:ext cx="493416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AE8D-10A0-4A44-8911-1D3A90B2D0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주변반사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Ambient Refle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광원에 직접 노출되지 않는 면에 밝기를 부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모든 빛의 경로를 추적하기 어려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면마다 상수 크기의 밝기를 추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전역 조명모델 효과를 근사적으로 부여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03640" y="3068640"/>
            <a:ext cx="2448000" cy="18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69F0-4ADB-4FEA-A8F5-45B3120DC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11-28T04:59:52Z</dcterms:modified>
  <cp:revision>662</cp:revision>
  <dc:subject/>
  <dc:title>PowerPoint 프레젠테이션</dc:title>
</cp:coreProperties>
</file>